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743-7FE4-46E9-8FAC-A0A6AAC2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BD9-BBAF-4556-AA40-D4B76F09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4DE-146E-4565-835C-3C08B2BA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0BF-6E0D-46BF-BCD4-45473812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CBB-0891-44A5-B64E-1D9C86AC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FDC-6441-49D9-A7E6-788C223F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E46-8A2D-4DEA-AC64-614BD194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10D-BD8D-44F6-8162-592F8BA0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88C-1F93-4F95-9344-9AA52532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D47-234B-4785-B815-34BF2264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0E9-05AB-4843-BF39-F7FF4B9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45C-7303-4D0A-A53D-830B286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D409-3A37-4CD4-ABCC-CBEF5900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Фирма»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G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»представляет Вам новую коллекцию универсальных тетрадей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нообразие тетрадей позволяет выбрать ту, которая подходит Вам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7720" y="303120"/>
            <a:ext cx="79581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Приро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фант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93516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ig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gi"/>
              </a:rPr>
              <a:t>Голографический эффект подчёркивает стильный дизайн тетради, выделяет её на витрине магаз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0590200">
            <a:off x="971640" y="1484280"/>
            <a:ext cx="32400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881800">
            <a:off x="5087880" y="125856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ff"/>
                </a:solidFill>
                <a:latin typeface="Comic Sans MS"/>
              </a:rPr>
              <a:t>Тетради привлекают внимание покупателей которым нравится эксклюзивная, ультрамодная и не дорогая тетрадь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0752200">
            <a:off x="1763280" y="2420640"/>
            <a:ext cx="50007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уэты баскетбол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2010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064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ероя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6160" y="1600200"/>
            <a:ext cx="40402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413000"/>
            <a:ext cx="821844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ff"/>
                </a:solidFill>
                <a:latin typeface="Comic Sans MS"/>
              </a:rPr>
              <a:t>Вы сможете найти нас - улица Борзинская дом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ff"/>
                </a:solidFill>
                <a:latin typeface="Comic Sans MS"/>
              </a:rPr>
              <a:t>Или связаться с нами по телефону: 33-42-56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00"/>
                </a:solidFill>
                <a:latin typeface="Footlight MT Light"/>
              </a:rPr>
              <a:t>СТИ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5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00"/>
                </a:solidFill>
                <a:latin typeface="Baskerville Old Face"/>
              </a:rPr>
              <a:t>Для ЛИДЕРОВ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70580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iner Hand ITC"/>
              </a:rPr>
              <a:t>Для роман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91200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И позитив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0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cc00"/>
                </a:solidFill>
                <a:latin typeface="Arial"/>
              </a:rPr>
              <a:t>Для мечта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2723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488360" cy="5040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екрасные цветы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16720" cy="489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Радующие глаз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адкая облож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5:54:00Z</dcterms:created>
  <dc:creator>Привет!</dc:creator>
  <dc:description/>
  <dc:language>en-US</dc:language>
  <cp:lastModifiedBy>Привет!</cp:lastModifiedBy>
  <dcterms:modified xsi:type="dcterms:W3CDTF">2007-11-23T05:34:24Z</dcterms:modified>
  <cp:revision>4</cp:revision>
  <dc:subject/>
  <dc:title>Фирма»BG»представляет Вам новую коллекцию универсальных тетрадей!!!</dc:title>
</cp:coreProperties>
</file>